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2058-0F36-4A2F-957D-E97C56BC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5530-D0AF-4540-9BF0-B1040521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1116-D288-483F-A05C-A99D59C0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5321-5559-4573-8D7F-81EA75F7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3028-255B-4448-AD5C-55BBBD5B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303A-C2B7-46DF-82EC-E561B1DC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9979-9114-40D3-8AEA-9E6C0AC2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EF08-3160-46CF-BC70-5E64D3E8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AD3E-37AF-428B-91D5-4C84AEB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836D-9276-4E63-ACFA-F3C509B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EAF3-1FCD-445A-B6AE-D9FCECF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69D4-15DC-489F-B0F4-A41B4652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11F6-0DC8-49DF-8661-493267B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7486-B1BD-4291-BEC6-60F55DC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1ACC-8E92-4001-BC23-37906446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8F5E-36B9-4051-98B2-B4B15F9E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EAE7-83CF-4C10-8236-BE588DC9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B80E-B8AD-4AD2-A849-78A6168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84F0-1DB3-45F7-ABAC-48B4E25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CA70-9AD2-4E8D-B421-0193E0FA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B9B5-B1CF-4931-8B9E-395EDBB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8161-3594-4CAA-BF18-551F182C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40A7-895B-4723-808A-1675E2B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E641-A1A1-4B60-9DD1-2BFD357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2724-C326-40F8-9483-C7FAC00AD89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AB3F-0018-4FF7-A3F2-9AE9C5934A3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3931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 на Господа, мощния Цар на всемир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й, о, земя! Нагласи с хор небесен псалтир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сен навред гръмко да екне в цял свя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сен да цепи ефир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00332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лава на Господа, тази Десница пресвят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о ни издига с орлови крила над земята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милва ни, дава безброй добрини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го да хвали душат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426240"/>
            <a:ext cx="932508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лава на Господа - Приятел е скъп и неж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води ни и в път на радост и мир безбреж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Крие ни Той в Свойте криле на покой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весели дух загрижен!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426240"/>
            <a:ext cx="932508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лава на Господа! Ще пеем в век чест и слава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ка Го хвали тук всеки народ и държава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з Бог велик нам е небесен светлик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ей му, земя, вечна слава!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15:19:23Z</dcterms:modified>
  <cp:revision>11</cp:revision>
  <dc:subject/>
  <dc:title>Slide 1</dc:title>
</cp:coreProperties>
</file>